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E69-6C00-4371-8E4A-1467714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F8A-980F-4DB4-B0C6-6D0099E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586-1146-400A-A3B6-9235629F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14E-2B9A-49BA-8FE7-268ACCDC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F0B-4B54-4395-9DBF-CB22488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526-E012-4E7C-9B5B-CD23530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FA8-4511-415B-A6AE-E58BDCD5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9BA-A1FC-4F09-A30C-89C808B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B04-7192-4D32-9C5A-05434A1A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11D-E2A7-4296-B46F-4E2BBA4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6AB-FF76-459A-BE8A-C63B0B0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88A-367F-4E9D-A7D3-E12AAC5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4592-C9AA-419A-84C2-4E1D6FA0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847880" cy="303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3121200" y="3803760"/>
            <a:ext cx="1334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preneurs along with capitalism make up a new business class devoted to making profi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Out” or “Cottage Industr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863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repren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16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980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pening of trade routes had economic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ences in Europe and their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ise of prices coupled with sharp increase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mount of money is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1500’s, prices begin to ris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lot more money in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more peop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 in European history when inflation rose rapidly is known a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ce revol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was fueled by the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il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gold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mer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Tulipmani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s-tulip"/>
          <p:cNvPicPr/>
          <p:nvPr/>
        </p:nvPicPr>
        <p:blipFill>
          <a:blip r:embed="rId1"/>
          <a:stretch/>
        </p:blipFill>
        <p:spPr>
          <a:xfrm>
            <a:off x="6400800" y="3352680"/>
            <a:ext cx="25052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system in which most businesses are privately ow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italists can take more risks because of their re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ed to the creation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tr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money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sh for overseas emp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ajor compon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preneur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uys that take the financial risks in the hopes of making pro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ed, managed, and assumed the risk of doing busi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red workers and paid for raw materials and transportation co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2:02:48Z</dcterms:created>
  <dc:creator>Will Daly</dc:creator>
  <dc:description/>
  <dc:language>en-US</dc:language>
  <cp:lastModifiedBy>shoyer</cp:lastModifiedBy>
  <dcterms:modified xsi:type="dcterms:W3CDTF">2007-11-12T12:53:28Z</dcterms:modified>
  <cp:revision>24</cp:revision>
  <dc:subject/>
  <dc:title>Slide 1</dc:title>
</cp:coreProperties>
</file>